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2714-4322-4BBB-9057-C34FC1C7F96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4121-7CF6-4D7B-9815-97E3AFA0010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01BA-5B66-4F9B-9999-F2381F975B8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6DA-BF96-48B6-A919-923765940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3E65-3212-480C-B4F1-3BF57A1C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BE63-30D6-4D48-A881-C5440984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7A6-D0C2-482F-BB96-D5B86E786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FAB6-9B67-40F5-BEB8-72E27D2C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DA3F-C12E-421A-9213-C91B0794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5ECF9-9E68-4E64-8E11-6B0FC17C0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4E93-8E4D-4A3A-85CF-8785DEFC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24B2-9293-470F-9AF9-57B6325B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00F6-66B6-4A23-9EC0-E333740C5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D0AF-15AB-4CD8-80F1-62406053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1356-4128-4D0F-BB21-D736F4C5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CFEC3-16F1-46C1-BCD3-178933CE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1C03-1F5F-408E-A6AD-9F198CF1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BAA12-2247-4F8E-BAEC-14453CC0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DF4A-E54E-4948-A53D-8A9FB514A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3EBD-CD81-4366-882F-A1F0E387E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F3E65-BA99-4123-9B59-EF507543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7D24A-C5D3-4577-BA57-EE71838C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B54B9-2CD6-460C-B9A9-64BE231E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88C3-EE74-4BC0-9DB8-715B17B6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17B02-B7AF-4B8A-AACA-F5B05E3D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17D3-BC27-4BE0-9013-0247DD7E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B1D2F-2DDD-4F58-81D6-0BD6DBB4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FA029-F50E-41B7-BCDE-05E346B5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73566-EE19-4585-8074-3B2A0970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8B5F9-1AB1-4742-8728-AF7E16B6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68412-C158-4313-9041-2E720912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1CD09-CB19-4227-AB1C-EEEF58B0C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01FC-CCD6-4C1E-ABFC-C28E1AED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C9CCD-165A-4026-8750-B2C59E389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E7275D-0861-48FC-8B40-45D54B94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A2A83-00BF-4F00-9586-9B7F53E3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6F9-061A-45C2-B2E2-D13BF225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B0D69-1A99-40E0-B703-A2393B62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32A5B-1DF9-4CDD-85C3-EA627090E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A1EB6-1857-49AA-96C8-255E14E0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874B6-601C-42A4-9E7F-E11E9552F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B42DA-6DE4-4BEC-BD64-E85E86DA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E79EA-74FC-45AF-A0B2-E7D2AD35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A0EEB-6D51-4D81-A94F-C1088423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DD243-2E58-45DF-A64E-728D285C3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4D486-5D7B-429A-82FF-AC907EB9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1830C-C7B7-45A4-84D1-7D0E0248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8F5C-D6A3-483C-BA32-AAD4F333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C00CC-3FF7-44AA-A7FE-DD065BB5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1B0588-AB90-4520-8871-0A10F746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BADD16-4989-4CB0-879A-7785B59D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8C5A2E-8C27-4B06-9245-DF41AAD8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C30C0-7E2D-4E84-9798-A419629D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CDBAD-F648-4F3F-A2FA-5C02C2F2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10403-5942-4129-9B0E-9B7A4FF0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3CAA6-1F1F-41E3-9DF6-FFB61E66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BF5FA-96C0-4CAC-A083-104154B9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9D13E-34B1-409B-9D2A-29B4157A0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4265-E293-42CE-9DC9-5CBD7126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B87E3-5999-4796-8A6D-12E44CBB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722B4-1ED5-42C8-BEFF-250C41E1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F35C0-5719-48EA-A1B1-77D91D15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2CB439-39EC-40CC-816B-550FFAAEC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8350C-3CDF-4443-8F32-A6F0D261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A0747-49E9-4F8C-B5A0-39887966F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2D4CF-CC02-4D71-A7F7-39C05CE3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A05D2-76F6-4C55-844B-001EA5E4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A1B2E-9B4F-4A49-BDE0-F87DAF83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21052-0A25-43FA-BD48-7108369F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284C-EDA4-40E3-AE2F-ACB40B69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DECEA-FF4F-4698-89BB-D4FE8E28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F991C-92BA-4738-99D8-D9346BBB7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47012-3D5C-4EC6-8669-CD4DD5EB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47F-BF71-4202-BFD4-226ED644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10A4-1694-4373-B498-A1B70FAE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CA68-A90F-428E-9B3E-8AE9D5560D0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C978A-6EAC-4C6A-979B-4B4AC389CAC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2054-E40B-41B8-872A-235FF673C08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6A7A-01A2-473A-91A6-E97536F071E8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9632-CC06-4F3B-888A-3B6945101E10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8500-C4E2-4ADB-BDBB-3628C127FED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84EFC-DD15-45AE-A136-17C6D1A1785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C069-3BDA-465B-881F-D95E27DE9B3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AEA6-D081-455B-9EE3-1A33D90CDDD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A747-6ACC-4185-ADDE-1B880A2176C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200C-AD4E-4C6B-AC42-9D067452B73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314B-799E-4243-9BD8-CB76CB15A94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Mai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unh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72960" y="1268280"/>
            <a:ext cx="1148400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Mai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41280" y="1484280"/>
            <a:ext cx="1151568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52216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de Mai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157112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de Mai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06360" y="1333440"/>
            <a:ext cx="108298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Mai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473120"/>
            <a:ext cx="108014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Mai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52440" y="1341360"/>
            <a:ext cx="107838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6-27T21:55:03Z</dcterms:modified>
  <cp:revision>415</cp:revision>
  <dc:subject/>
  <dc:title>Demografia</dc:title>
</cp:coreProperties>
</file>